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F45B-E293-4A0B-B1AF-93D87B69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21B3-6010-4606-A17B-BFAE302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79E1F-7677-442C-BA33-6F5E7EE2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EBCF9-AAF3-4B37-A394-84B75447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76EF-6630-42B4-B61F-AA3346A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E92D3-DCF1-4B2F-A9F7-D8F01213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4C051-B951-40B8-90CB-0ADE4988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5B30D-F929-40BD-BD42-772E3AAE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3B006-04D5-449C-B6EC-188CD969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5D987-2FD2-4883-ABE5-8DB16D5A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91937-D18E-415A-A763-D92E5F9F4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09F92-2F75-4792-ADB0-27A5D00C6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741-FF2F-4E59-951F-9895B8F8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3076-09A6-4173-92CD-E8179DEE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B9814-C16B-4808-A231-59418E72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17BC4-E161-44B3-AC1C-C461D7E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FAA0C-41B6-4FC5-AA86-BB47C36A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E8437-6511-4BC4-9053-A4397CFC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D1BC5-7C0A-429C-AFDA-513C482D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41900-61A6-4D2D-831A-B24FF594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E19C7-E7B8-4076-8C41-12F2E1F0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BDDFD-30AF-4E46-8D8F-FF5074DD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22881-003D-4B6D-9AA9-86623639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8DD0-7A4E-478E-B513-F433FC85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DD2E8-B1C4-425E-BD04-6E6C6914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3DD9-7AA4-454B-8327-DEA70284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393-BF9D-44EE-8CFC-0447CA3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B716-5A1D-43B6-ABD7-EF364A86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F136-8539-4FF2-95A7-B0079FAE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8AF-912F-4176-BDA0-4B93C43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E924-36EB-492E-91EB-49D5C0E8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CDF7-EA61-4FE5-B397-D1155676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845-B14C-48F9-AB53-7152399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4C2E-3539-4A79-BF40-BA8CED4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25F2C-9B2A-4C86-86F7-F348DDD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581C-9555-4FC0-B1DA-81322635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61A-1D7E-4925-89D5-508AF4A77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E69F-71FA-4D7A-BF83-CC0BEA69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4BA3-1CB9-47AA-A15C-71691A57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D2605-DD26-4A51-95A8-4D9492C3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8CA8-923E-4332-819C-B780B53F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EB8CE-E3A3-4BDC-98EB-215360E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DAB81-E406-48E4-B9B3-A883876B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C82-5CFA-4BC3-8A35-23029251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06FF3-FC86-4D52-9AD0-F48D6639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7CB01-D5B6-4C62-9ABC-A45C62E0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0DFA0-E607-4368-9130-F02FF5F5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BD62-961C-4879-9E7E-7291A033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24E8D-57F4-426B-8134-35AF63E7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E5AC-AB7F-46C4-B388-BBDF99E58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FB26-0DAE-4C25-83E1-97AD0250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13E35-1537-44FE-8B20-DB604C34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4530E-5EFC-44EE-B3F8-E0F51FE8E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94BBE-08C5-4682-9597-40CA2D4D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5F40-76A5-4429-A903-62501312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3BFF-8D4F-435A-A6C6-F582D21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FA4BF-48B8-4D0A-B443-97DB55A0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8737-DA6E-47E3-A45F-2A628856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B7571-65C5-4334-A1CB-63A9695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40ACC-62B5-45C3-8D77-5F3CE29A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615F9-0EAC-497C-B45F-8DB0C64D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1FE8-6883-4A92-8078-3033F5C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CC20-15A0-4648-89AB-634994AC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A508E-7034-4290-9CAA-E4777E9B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91AD2-8794-46ED-85E5-AE6F5F1C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799-00D8-4C2E-8E93-6D42B100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66CD3-E8AC-4340-BBA2-1B76D090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497A-011A-48A1-80F5-3394760C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89756-EE2A-418E-86A9-B4E9EA4D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A743D-1AC5-4D36-88F3-9CD08310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0064-B27B-4264-B6E9-A5A69A56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6D9B-2236-4160-9CAF-CAA63704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73AFD-2326-4805-80F2-F96A902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6DAA5-FC97-4058-9907-1C325981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64B2-7752-4257-832F-77B6A46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99F3-2584-4015-907F-101375AD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FA93-5149-4E80-A786-E9AB172E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1CB1-B303-4454-BAA9-BDFE59F8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91136-4D3C-46C1-805B-C6D9CC1F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F9964-8F18-4CAB-A592-26F832AE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EC9F-D3C3-49E8-BEDC-ED95BA47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1B44C-FE89-47E2-8A83-14A852D5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1DE4A-FD72-40E9-9598-783907DF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D0E8D-62EB-4CA2-9B22-30CA4C3F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4CFDB-EAC8-4862-ACAF-0FD3C72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35AB7-11EC-41DD-9595-709DE55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119ED-D47B-445C-BE5E-AC15D0337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F23-DA4C-42F6-9A59-F122DF06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E3310-C1DC-413E-B49D-7A364B4F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BBF61-403E-454B-BC07-05331EF9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C97E-2137-47D0-8D86-B5E9322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F679-E659-4D23-8BDA-B7B5D2BB2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6DA99-1984-4D7F-9A2D-64559D9B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DB33E-6A95-4E52-BF60-13DF0A55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1536F-B65A-4E56-9C36-174350DC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FE7F2-08E2-4404-BBEE-3201ED5A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D760-B0F2-43EA-A56A-17C20F21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CD04A-9741-4F8B-9648-B8C2F3C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5FF-72A2-430F-AA06-A7A1109D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1F67A-1C77-48C4-8AE0-B1AD2EA0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A56226-6BA2-4BF3-A9AA-A55ADD3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DF8D-8651-450F-A47A-D2115F5B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4F531-A5BD-4E25-81F9-C67E10D9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F1B2-708F-4C86-837D-53BE5DDC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F5D19-5897-4BD6-BDFC-90F8DC135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AEB5A-4416-47F3-8E7C-7D66CFF3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7C68D-4281-4896-9F77-65980E5C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7031C-83B9-4827-8E23-B5CF5BE8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D2FC-4F89-45AE-8052-DFE312CB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5BCD-86DE-4447-83C9-79A664D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C5B80-45AB-4374-8A2C-02542DA2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D13C-A7AE-4CA5-9826-E9BAEF5A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13C0-85B3-42A7-9ECF-E2C4F305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44255-6616-4048-B5DA-0098B98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A4288-664C-4C9A-ACF1-352E42BA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C060D-2143-4D1E-A07E-EB218F78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1887F-35EE-4396-821A-248524FD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46677-B32A-44D3-960F-C68735A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300D1-CE30-4D2D-84CE-7DB82893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F73BE-92A2-4BB1-8596-A53AFF82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6CD6-7098-4671-964B-9BC1B7444E2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4187-6276-4605-9A5A-3BDA5AF2DC4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B613-59BE-4BED-B79E-756235BB6BA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69A8-CDC2-4C35-B09B-97A1C43DB20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4060-0D6F-4E36-A8D3-9C45CEDCB74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85EC-83EC-4F96-9FE3-E152CC22483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EB4-950F-4C9B-A796-9EFB213CAD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B7C6-F8FB-4BC8-A822-ABE4E978A4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B8F-C621-4B86-8C07-BC375548BB8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3B75-5009-47AD-A15F-CC2A30F63CB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4.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저 분은 누구입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부모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교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Find out the English names of the fruits on p.44 and match them with the corresponding Korean n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분은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아내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집사람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수잔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이 아이는 누구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짱쯔밍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우리 딸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제 딸입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entleman (lady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이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daughter 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 this~/that~/that~; pre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 방에서 기다리십시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 사람은 아주 친절합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그 책을 읽고 싶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누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ho; interrogative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를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기다립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누구의 가방입니까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누가 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구가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누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우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가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우리 학교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우리 집에 놀러오세요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 the ~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옷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oman (&lt;-&gt;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an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집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방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a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lassroo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은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는 누구입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은 누구입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학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여자 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그 사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24T15:59:38Z</dcterms:modified>
  <cp:revision>86</cp:revision>
  <dc:subject/>
  <dc:title>KOREAN LANGUAGE</dc:title>
</cp:coreProperties>
</file>